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05.wmf" ContentType="image/x-wmf"/>
  <Override PartName="/ppt/media/image51.png" ContentType="image/png"/>
  <Override PartName="/ppt/media/image49.wmf" ContentType="image/x-wmf"/>
  <Override PartName="/ppt/media/image143.png" ContentType="image/png"/>
  <Override PartName="/ppt/media/image100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149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wmf" ContentType="image/x-wmf"/>
  <Override PartName="/ppt/media/image50.wmf" ContentType="image/x-wmf"/>
  <Override PartName="/ppt/media/image147.wmf" ContentType="image/x-wmf"/>
  <Override PartName="/ppt/media/image144.wmf" ContentType="image/x-wmf"/>
  <Override PartName="/ppt/media/image53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48.wmf" ContentType="image/x-wmf"/>
  <Override PartName="/ppt/media/image15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46.wmf" ContentType="image/x-wmf"/>
  <Override PartName="/ppt/media/image140.wmf" ContentType="image/x-wmf"/>
  <Override PartName="/ppt/media/image54.wmf" ContentType="image/x-wmf"/>
  <Override PartName="/ppt/media/image35.wmf" ContentType="image/x-wmf"/>
  <Override PartName="/ppt/media/image158.wmf" ContentType="image/x-wmf"/>
  <Override PartName="/ppt/media/image61.wmf" ContentType="image/x-wmf"/>
  <Override PartName="/ppt/media/image137.wmf" ContentType="image/x-wmf"/>
  <Override PartName="/ppt/media/image6.png" ContentType="image/png"/>
  <Override PartName="/ppt/media/image136.wmf" ContentType="image/x-wmf"/>
  <Override PartName="/ppt/media/image135.png" ContentType="image/png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32.wmf" ContentType="image/x-wmf"/>
  <Override PartName="/ppt/media/image129.png" ContentType="image/png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5EC8-EC0F-4C0D-B605-5E5537E94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6F26-8A60-4DB2-96E1-332265E1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25CF-8095-4879-B10B-AF4E4E9A8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EAD4-04B8-49BC-B66A-8858AF9E4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D0A4-320D-4DC3-BBF3-F2B13D9D6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D41B-1F62-44AC-A9B5-2F30F8318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1FA8-CB85-4B30-ABE1-321C6A012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A037-E648-4E47-B461-497E9115A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213E-0EB7-487F-B866-BE94639F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D1A9-6809-45D0-826C-6F89EB11B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49A1-49D4-453E-A4EA-5A4E87A50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AC0E-1F2A-4E53-9313-535833B64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AB51-CAD6-469D-B53D-830AE3EF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A176-818B-4C41-B123-270BA100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96E-CA10-4624-AC53-2543BD1AA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84DD-7183-4126-80D3-4859510A1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2F1C-8F19-4362-94FE-75A8F9893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AE2-CB1A-4AC7-93FD-A458AB568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6787-9C01-4297-A426-355EBDCA1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4CDA-320B-40C1-AD48-8F526A0DC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0BC2-3626-4B9A-BE1F-D23990353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43AB-F8BB-4FDE-BBBB-CFAF2A05B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A106-5EB9-47B5-A651-6990488A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AFC9-E1FB-4805-B6DA-3FE37F9AD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4C4D-1BB2-4AFB-9ED7-F720447ED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4F27-FC18-4F3D-9664-14DAE2B9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A6A4-635C-4528-8A44-BA9C5FD0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6E6A-E8C5-4CDB-9B1D-0A5180F98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image" Target="../media/image1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png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3" descr="C:\Users\Sedgwick\AppData\Local\Microsoft\Windows\Temporary Internet Files\Content.IE5\TOVYX0VK\MC900445930[1].wmf"/>
          <p:cNvPicPr/>
          <p:nvPr/>
        </p:nvPicPr>
        <p:blipFill>
          <a:blip r:embed="rId6"/>
          <a:stretch/>
        </p:blipFill>
        <p:spPr>
          <a:xfrm>
            <a:off x="4267080" y="2055960"/>
            <a:ext cx="1670040" cy="167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C:\Users\Sedgwick\AppData\Local\Microsoft\Windows\Temporary Internet Files\Content.IE5\VA1SBUOT\MCj04325900000[1].png"/>
          <p:cNvPicPr/>
          <p:nvPr/>
        </p:nvPicPr>
        <p:blipFill>
          <a:blip r:embed="rId7"/>
          <a:stretch/>
        </p:blipFill>
        <p:spPr>
          <a:xfrm>
            <a:off x="3657600" y="175104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3" descr="C:\Users\Sedgwick\AppData\Local\Microsoft\Windows\Temporary Internet Files\Content.IE5\X1IG4AF2\MC900436882[1].png"/>
          <p:cNvPicPr/>
          <p:nvPr/>
        </p:nvPicPr>
        <p:blipFill>
          <a:blip r:embed="rId6"/>
          <a:stretch/>
        </p:blipFill>
        <p:spPr>
          <a:xfrm>
            <a:off x="1143000" y="40384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Sedgwick</cp:lastModifiedBy>
  <dcterms:modified xsi:type="dcterms:W3CDTF">2010-06-23T01:59:28Z</dcterms:modified>
  <cp:revision>93</cp:revision>
  <dc:subject>Keyboarding</dc:subject>
  <dc:title>Kindergarten Adventures in Keyboarding</dc:title>
</cp:coreProperties>
</file>